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13A1-30EC-4D72-BD46-0BFB4017C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32C6-415E-4C95-87B5-044DE244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4DDE2-4B03-4E17-B458-DCE33412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C0367-68EB-47B4-B5BC-0CFA440B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249A2-F6A2-4039-A3CE-D66DDA97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9723E-0172-4068-8492-FEF21545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F8233-856A-4230-8D3E-7C1C0920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52796-8E6E-4DB1-A0B6-249ED310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9A5D5-6848-4E45-AD90-F0B06E91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675B9-3D59-41A8-A86C-5847AE583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96BD1-AB18-4B57-8F69-1338A4CD0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463AC8-FED3-4A43-AD40-760A5B2F2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AB3B-428B-4BE8-9B83-B6E232E83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BF8C59-B66F-4901-8871-8A4361E2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55EE8-4F02-4A51-811F-9D858B19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1B4D7-537F-4640-BF2A-E1F94FD2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45DB1-5623-47ED-A5D5-2F1497AE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ED2697-5645-408A-8ADD-0FA95E89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F517D-C491-44E3-9A44-40DFBED6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2868B-35F9-46CF-929E-B8B2E1DA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5AD63-741D-4F2F-8E69-D65658BA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6E35D-4FA9-4293-A4B3-F73F9D54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3B70A-1BB6-415A-AC5B-D98C9B597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2BED-D757-480F-8BDA-11D471929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12066-1D18-4FAA-9D12-FA7B38AE4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E4DBB-97C9-4E97-99E4-087FCABC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CB37D-6BF2-4540-A6C2-4AFEAF75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A5F8B-9033-4E4A-A0B2-0FE38BB2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3C1A79-BF15-4CAC-88E6-BCB19A97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93FFF-40B4-47AD-A763-AB4CA892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BBFFB-6CE5-4039-8413-22460EE4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A0735-9E5A-4118-BB8A-EF7CB621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926C3-E6C2-417A-B8C2-5EC9E9C3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BF736-213B-4F2B-8EAB-8BB81D88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49A5-D85D-46F0-BD97-43BF94EA9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2D2C4-EE0B-4796-B0E6-EB8437A8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A4AA4-3884-4DA4-82A6-C13BD4A0E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526D1-C23D-4F66-9747-11A50A530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4B63-4173-48C1-8117-23468939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050E-43BE-4D8F-8EBD-EABB8971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F3C2-8816-4B02-AAE8-7AC867CB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5B10-1C7A-44B8-AFB4-E3BAFB42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E2D8-BF9D-4901-84FE-885D5787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AD5F-1695-4B11-B805-2AB6AEEA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E7E5-B8B5-4D9C-8FB3-9D9DE131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CE86-4A6F-4492-90B3-9569F1AA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D24B-CEE7-4EF5-B900-06BB8346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C7C0-6FDF-4383-980E-B1FFF53C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53BF-1FB9-4B56-AD4D-3DF5AE0D8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A417-D1AB-4B24-BBE6-EEEE80FAF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7BA5F-DC1A-4B08-9162-035418116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70EB7-5FDD-4125-A03E-F0361DD8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899BE-1A66-4FAB-ABAB-1FD1CE36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26064-3FA7-49A0-91DC-E39A0A05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57B10-D4F2-4324-88FE-E3581B3D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AD37-D273-49CB-BF1B-0998892A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3665B-B260-47E0-9F8C-2152A749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C8637-F7E0-40BB-861C-1BF26BC2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81311-FCC8-453B-ACEE-471D6268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8869C-CC7A-4C9E-BE42-29BE3617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35C95-709B-4C71-81C0-E570EB1A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91724-7551-46FB-8C5B-D1BAFE593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463E5-DE22-44BB-8393-D8566F574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3E5EA-74E8-4967-AA61-60D94A279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653A4-490D-45AA-B0AA-808E351B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A6336-4718-4BCC-BB2A-3C23CE85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6BA6-6B4C-4730-80F3-4BEB6A1C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5987F-D5E4-4D36-8932-01740048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FD1AD-0584-405C-920F-E740B052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368FA-C966-49BF-9435-09E04C59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F9A6A-FB95-4F26-A48C-2A5039C0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853C4-1F84-4FFC-914B-50EF4B1F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2668F-8C68-4AFC-8D56-40FBAD6F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987C0-C11C-4DC9-BE3B-25476394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C973B-BFE3-4364-A5D0-911D66321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75CC5-3572-448D-9026-5C025FC3A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11B31-22F5-4093-BDCB-7CDD654D6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8BC5-81C8-4793-817A-B3C8A416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729DB-CEFC-4932-B70C-CE285A5F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24F3D-BFC5-417C-963F-F190956F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0D702-3B2B-4336-89A8-5D73CAF2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FD0E7-F55F-4AF6-BF90-1252A19A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B78D9-419E-426D-9FEC-FDA505F2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E7252-DAA7-416E-8D6B-398AFF7D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FE9C8-0269-40AA-90BF-E85D38CC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A436B-64A3-4F62-B4FB-809AE90D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0BA91-3AC2-4761-9274-F216DB4A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4F0E8-C27E-4027-B258-6FF62CEEF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0F49-22B9-490B-9275-DE77603F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01377-F524-46D4-88F3-FA5A781B6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9E31A-8BD5-48BE-A0B3-89282F60E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9B8BB-33D6-4657-A981-CE5A4CB6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B9D17-A8B4-45F2-BDF3-556A8FFB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03B24-936C-491D-B8AC-FCF3B4BE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148AE-79F2-471F-A91F-951D7DF2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0CB4F-4CCD-482A-BF85-83D1D920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9B1CC-8212-469C-955A-03ADCA91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77704-82B2-4BCD-A005-6A04ACF4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CEE93-27CB-4769-9FE9-8176A627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4699-BE57-433B-A2FA-FFFEC9A2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85F88-406B-4C4A-A032-2A9A5B10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FA050-0606-4EBF-8BE4-5C0D2A945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4189F-49F4-4745-BCB8-E0E09B63A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88CD6-0BEA-47CE-ADE3-CE81038B2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0EA3F-3303-439E-9D68-9A5E40C0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E47BE-8D32-4E11-89D2-1042F3FB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F5E39-6310-4676-91D9-146C5BAD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85507-A6D4-4F12-BCE9-0B706D2B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339F1-E5D5-47C4-AB60-B7C98129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3C4C4-067E-4D4F-8103-082258BE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A992-8BA4-4CDC-9FBF-94C238FF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01087-522F-416B-BE5C-11BEAC56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0F245-F323-4641-B74B-6761B0EC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E7F0B-AB35-410E-8916-3CD19212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94961-2E1E-4DEB-A528-4DA7FFEC5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006B48-F69E-4252-A794-38FF2AE0A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5FEB2-2AFD-43BB-A439-8385B7750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00F69-AFE9-4C20-B8A1-5EC0C1FA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AC050-11EC-4941-9B74-AEE395E2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956FD-3C02-4326-93FE-E8011BC6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387A8-185A-4D3A-AA7E-1A3D4B9E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7A2C-3955-4721-A1FF-5B58226F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94AE1-B127-448E-941A-8A13C07C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EAD1B-B41E-4FD0-8A82-4D261C17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DB57E-D265-4A8B-A897-928FF112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01B40-019D-48E3-8202-51CD13D8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0DDEB-2D5A-43E7-A5BB-7EA6ABC2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22A9A-8388-406D-95B9-C213D700F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F707D-9536-44C3-80AF-6BE63E516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FF38E-DA1B-48E8-9DCE-A3689061C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5FC1D-F8AE-4202-9C98-D111FBBD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E669D-519D-4F52-A71C-C075F618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F119E1-B743-4F1D-B1A5-033BD1553BC1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C72331-311D-4F92-AB33-DD6DD4755DB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magen 6" descr="BM-Fondo-diap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Rectángulo 7"/>
          <p:cNvSpPr/>
          <p:nvPr/>
        </p:nvSpPr>
        <p:spPr>
          <a:xfrm rot="16200000">
            <a:off x="5566320" y="3280320"/>
            <a:ext cx="6858000" cy="297000"/>
          </a:xfrm>
          <a:prstGeom prst="rect">
            <a:avLst/>
          </a:prstGeom>
          <a:solidFill>
            <a:srgbClr val="6f99b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2BF03D-3059-4A12-9724-18C252F6CA88}" type="slidenum"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Imagen 6" descr="BM-Fondo-diap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6" name="Rectángulo 7"/>
          <p:cNvSpPr/>
          <p:nvPr/>
        </p:nvSpPr>
        <p:spPr>
          <a:xfrm rot="16200000">
            <a:off x="5566320" y="3280320"/>
            <a:ext cx="6858000" cy="297000"/>
          </a:xfrm>
          <a:prstGeom prst="rect">
            <a:avLst/>
          </a:prstGeom>
          <a:solidFill>
            <a:srgbClr val="6f99b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9C4211-CC3C-4B78-B980-316B66DFE85C}" type="slidenum"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ángulo 8"/>
          <p:cNvSpPr/>
          <p:nvPr/>
        </p:nvSpPr>
        <p:spPr>
          <a:xfrm>
            <a:off x="457200" y="216000"/>
            <a:ext cx="8229600" cy="109440"/>
          </a:xfrm>
          <a:prstGeom prst="rect">
            <a:avLst/>
          </a:prstGeom>
          <a:solidFill>
            <a:srgbClr val="6f99b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432632-930D-48A2-884C-8C94B8B0FB7A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F2DF60-519E-40C0-8D83-D0385E434956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Imagen 6" descr="BM-Fondo-diap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Rectángulo 7"/>
          <p:cNvSpPr/>
          <p:nvPr/>
        </p:nvSpPr>
        <p:spPr>
          <a:xfrm rot="16200000">
            <a:off x="5566320" y="3280320"/>
            <a:ext cx="6858000" cy="297000"/>
          </a:xfrm>
          <a:prstGeom prst="rect">
            <a:avLst/>
          </a:prstGeom>
          <a:solidFill>
            <a:srgbClr val="6f99b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AA6669-C47C-43BF-9423-38CEE28F4453}" type="slidenum"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ángulo 8"/>
          <p:cNvSpPr/>
          <p:nvPr/>
        </p:nvSpPr>
        <p:spPr>
          <a:xfrm>
            <a:off x="457200" y="1417680"/>
            <a:ext cx="8229600" cy="111240"/>
          </a:xfrm>
          <a:prstGeom prst="rect">
            <a:avLst/>
          </a:prstGeom>
          <a:solidFill>
            <a:srgbClr val="6f99b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65E918-04EC-4ECE-9F7F-D39B4C00B3C9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581679-3058-4629-8098-0F0808930902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n 6" descr="BM-Fondo-diap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ángulo 7"/>
          <p:cNvSpPr/>
          <p:nvPr/>
        </p:nvSpPr>
        <p:spPr>
          <a:xfrm rot="16200000">
            <a:off x="5566320" y="3280320"/>
            <a:ext cx="6858000" cy="297000"/>
          </a:xfrm>
          <a:prstGeom prst="rect">
            <a:avLst/>
          </a:prstGeom>
          <a:solidFill>
            <a:srgbClr val="6f99b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BAF9FE-8265-4FEC-982D-B9D85CB6D923}" type="slidenum"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ángulo 8"/>
          <p:cNvSpPr/>
          <p:nvPr/>
        </p:nvSpPr>
        <p:spPr>
          <a:xfrm>
            <a:off x="457200" y="3600360"/>
            <a:ext cx="8229600" cy="111240"/>
          </a:xfrm>
          <a:prstGeom prst="rect">
            <a:avLst/>
          </a:prstGeom>
          <a:solidFill>
            <a:srgbClr val="6f99b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AEF273-A3F7-40AE-B476-71103AEC9A3C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0D6902-0BF9-4F7A-8A27-D54B255F2B77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magen 6" descr="BM-Fondo-diap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ángulo 7"/>
          <p:cNvSpPr/>
          <p:nvPr/>
        </p:nvSpPr>
        <p:spPr>
          <a:xfrm rot="16200000">
            <a:off x="5566320" y="3280320"/>
            <a:ext cx="6858000" cy="297000"/>
          </a:xfrm>
          <a:prstGeom prst="rect">
            <a:avLst/>
          </a:prstGeom>
          <a:solidFill>
            <a:srgbClr val="6f99b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4ECEB3-3066-4831-9C21-9723C449F35F}" type="slidenum"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ángulo 8"/>
          <p:cNvSpPr/>
          <p:nvPr/>
        </p:nvSpPr>
        <p:spPr>
          <a:xfrm>
            <a:off x="457200" y="1417680"/>
            <a:ext cx="8229600" cy="111240"/>
          </a:xfrm>
          <a:prstGeom prst="rect">
            <a:avLst/>
          </a:prstGeom>
          <a:solidFill>
            <a:srgbClr val="6f99b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AB56FB-A552-43AC-B33A-CC155613D529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3C8B22-482C-41CC-ACC5-9CA022AF450E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Imagen 6" descr="BM-Fondo-diap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Rectángulo 7"/>
          <p:cNvSpPr/>
          <p:nvPr/>
        </p:nvSpPr>
        <p:spPr>
          <a:xfrm rot="16200000">
            <a:off x="5566320" y="3280320"/>
            <a:ext cx="6858000" cy="297000"/>
          </a:xfrm>
          <a:prstGeom prst="rect">
            <a:avLst/>
          </a:prstGeom>
          <a:solidFill>
            <a:srgbClr val="6f99b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651AA7-C6A5-4F16-878C-F5EEC4B828B3}" type="slidenum"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ángulo 8"/>
          <p:cNvSpPr/>
          <p:nvPr/>
        </p:nvSpPr>
        <p:spPr>
          <a:xfrm>
            <a:off x="457200" y="325440"/>
            <a:ext cx="8229600" cy="111240"/>
          </a:xfrm>
          <a:prstGeom prst="rect">
            <a:avLst/>
          </a:prstGeom>
          <a:solidFill>
            <a:srgbClr val="6f99b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D5177B-CB1C-4564-A62D-3AA4D6F44803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D2B1AF-3A9D-42C9-A055-C36934E8C5EB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Imagen 6" descr="BM-Fondo-diap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Rectángulo 7"/>
          <p:cNvSpPr/>
          <p:nvPr/>
        </p:nvSpPr>
        <p:spPr>
          <a:xfrm rot="16200000">
            <a:off x="5566320" y="3280320"/>
            <a:ext cx="6858000" cy="297000"/>
          </a:xfrm>
          <a:prstGeom prst="rect">
            <a:avLst/>
          </a:prstGeom>
          <a:solidFill>
            <a:srgbClr val="6f99b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39B554-802C-4B2D-98CE-F7585A248F5C}" type="slidenum"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ángulo 8"/>
          <p:cNvSpPr/>
          <p:nvPr/>
        </p:nvSpPr>
        <p:spPr>
          <a:xfrm>
            <a:off x="457200" y="1417680"/>
            <a:ext cx="8229600" cy="111240"/>
          </a:xfrm>
          <a:prstGeom prst="rect">
            <a:avLst/>
          </a:prstGeom>
          <a:solidFill>
            <a:srgbClr val="6f99b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043260-4238-494F-AF30-C4F35524382F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981171-F0D0-423C-97F4-2863AF877146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Imagen 6" descr="BM-Fondo-diap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Rectángulo 7"/>
          <p:cNvSpPr/>
          <p:nvPr/>
        </p:nvSpPr>
        <p:spPr>
          <a:xfrm rot="16200000">
            <a:off x="5566320" y="3280320"/>
            <a:ext cx="6858000" cy="297000"/>
          </a:xfrm>
          <a:prstGeom prst="rect">
            <a:avLst/>
          </a:prstGeom>
          <a:solidFill>
            <a:srgbClr val="6f99b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AEE585-DC30-4117-8565-2F95EF4E564F}" type="slidenum"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ángulo 8"/>
          <p:cNvSpPr/>
          <p:nvPr/>
        </p:nvSpPr>
        <p:spPr>
          <a:xfrm>
            <a:off x="457200" y="1417680"/>
            <a:ext cx="8229600" cy="111240"/>
          </a:xfrm>
          <a:prstGeom prst="rect">
            <a:avLst/>
          </a:prstGeom>
          <a:solidFill>
            <a:srgbClr val="6f99b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86267B-C61A-40EC-B32F-9F65792AEE00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126DF3-193F-4817-A644-EC8EF9B17EC9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Imagen 6" descr="BM-Fondo-diap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Rectángulo 7"/>
          <p:cNvSpPr/>
          <p:nvPr/>
        </p:nvSpPr>
        <p:spPr>
          <a:xfrm rot="16200000">
            <a:off x="5566320" y="3280320"/>
            <a:ext cx="6858000" cy="297000"/>
          </a:xfrm>
          <a:prstGeom prst="rect">
            <a:avLst/>
          </a:prstGeom>
          <a:solidFill>
            <a:srgbClr val="6f99b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4E5325-2BD7-4C4A-A1B3-4713512857CB}" type="slidenum"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ángulo 8"/>
          <p:cNvSpPr/>
          <p:nvPr/>
        </p:nvSpPr>
        <p:spPr>
          <a:xfrm>
            <a:off x="457200" y="1417680"/>
            <a:ext cx="8229600" cy="111240"/>
          </a:xfrm>
          <a:prstGeom prst="rect">
            <a:avLst/>
          </a:prstGeom>
          <a:solidFill>
            <a:srgbClr val="6f99b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69050B-70A7-4D8F-B470-A7E86C4FA96F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0B152E-ACC8-4AD8-A6A1-2C0F28B2F6F5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Imagen 6" descr="BM-Fondo-diap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Rectángulo 7"/>
          <p:cNvSpPr/>
          <p:nvPr/>
        </p:nvSpPr>
        <p:spPr>
          <a:xfrm rot="16200000">
            <a:off x="5566320" y="3280320"/>
            <a:ext cx="6858000" cy="297000"/>
          </a:xfrm>
          <a:prstGeom prst="rect">
            <a:avLst/>
          </a:prstGeom>
          <a:solidFill>
            <a:srgbClr val="6f99b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B391C8-C918-49EC-B6FF-2B31711C68D5}" type="slidenum"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ángulo 8"/>
          <p:cNvSpPr/>
          <p:nvPr/>
        </p:nvSpPr>
        <p:spPr>
          <a:xfrm>
            <a:off x="457200" y="216000"/>
            <a:ext cx="8229600" cy="109440"/>
          </a:xfrm>
          <a:prstGeom prst="rect">
            <a:avLst/>
          </a:prstGeom>
          <a:solidFill>
            <a:srgbClr val="6f99b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4719B3-B1BE-4391-A9AD-809E495A1788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6A07F4-9123-4228-92E2-D3374AE7855F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Imagen 6" descr="BM-Fondo-diap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Rectángulo 7"/>
          <p:cNvSpPr/>
          <p:nvPr/>
        </p:nvSpPr>
        <p:spPr>
          <a:xfrm rot="16200000">
            <a:off x="5566320" y="3280320"/>
            <a:ext cx="6858000" cy="297000"/>
          </a:xfrm>
          <a:prstGeom prst="rect">
            <a:avLst/>
          </a:prstGeom>
          <a:solidFill>
            <a:srgbClr val="6f99b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3D5B07-072B-4AB4-BECA-092BA2582054}" type="slidenum"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ángulo 8"/>
          <p:cNvSpPr/>
          <p:nvPr/>
        </p:nvSpPr>
        <p:spPr>
          <a:xfrm>
            <a:off x="457200" y="216000"/>
            <a:ext cx="8229600" cy="109440"/>
          </a:xfrm>
          <a:prstGeom prst="rect">
            <a:avLst/>
          </a:prstGeom>
          <a:solidFill>
            <a:srgbClr val="6f99b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BDDE49-542C-435D-9E1D-7C7A73336F4E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86B987-5190-4133-AF01-0B2EF8D4E9D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BRAINSTORMING DE FUTU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Marcador de contenido 3" descr="Ingenius_Wallpaper_logos.png"/>
          <p:cNvPicPr/>
          <p:nvPr/>
        </p:nvPicPr>
        <p:blipFill>
          <a:blip r:embed="rId1"/>
          <a:srcRect l="-1137" t="0" r="-1137" b="0"/>
          <a:stretch/>
        </p:blipFill>
        <p:spPr>
          <a:xfrm>
            <a:off x="355680" y="1258920"/>
            <a:ext cx="840420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Imagen 3" descr=""/>
          <p:cNvPicPr/>
          <p:nvPr/>
        </p:nvPicPr>
        <p:blipFill>
          <a:blip r:embed="rId1"/>
          <a:stretch/>
        </p:blipFill>
        <p:spPr>
          <a:xfrm>
            <a:off x="0" y="266760"/>
            <a:ext cx="8682120" cy="5021280"/>
          </a:xfrm>
          <a:prstGeom prst="rect">
            <a:avLst/>
          </a:prstGeom>
          <a:ln w="0">
            <a:noFill/>
          </a:ln>
        </p:spPr>
      </p:pic>
      <p:sp>
        <p:nvSpPr>
          <p:cNvPr id="521" name="CuadroTexto 4"/>
          <p:cNvSpPr/>
          <p:nvPr/>
        </p:nvSpPr>
        <p:spPr>
          <a:xfrm>
            <a:off x="2652840" y="5288040"/>
            <a:ext cx="34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er@beautifulmonday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CuadroTexto 5"/>
          <p:cNvSpPr/>
          <p:nvPr/>
        </p:nvSpPr>
        <p:spPr>
          <a:xfrm>
            <a:off x="1760400" y="5757840"/>
            <a:ext cx="164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@esterjteije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Imagen 6" descr=""/>
          <p:cNvPicPr/>
          <p:nvPr/>
        </p:nvPicPr>
        <p:blipFill>
          <a:blip r:embed="rId2"/>
          <a:stretch/>
        </p:blipFill>
        <p:spPr>
          <a:xfrm>
            <a:off x="932040" y="5657760"/>
            <a:ext cx="598320" cy="598680"/>
          </a:xfrm>
          <a:prstGeom prst="rect">
            <a:avLst/>
          </a:prstGeom>
          <a:ln w="0">
            <a:noFill/>
          </a:ln>
        </p:spPr>
      </p:pic>
      <p:pic>
        <p:nvPicPr>
          <p:cNvPr id="524" name="Imagen 7" descr=""/>
          <p:cNvPicPr/>
          <p:nvPr/>
        </p:nvPicPr>
        <p:blipFill>
          <a:blip r:embed="rId3"/>
          <a:stretch/>
        </p:blipFill>
        <p:spPr>
          <a:xfrm>
            <a:off x="5208480" y="5657760"/>
            <a:ext cx="571680" cy="571680"/>
          </a:xfrm>
          <a:prstGeom prst="rect">
            <a:avLst/>
          </a:prstGeom>
          <a:ln w="0">
            <a:noFill/>
          </a:ln>
        </p:spPr>
      </p:pic>
      <p:sp>
        <p:nvSpPr>
          <p:cNvPr id="525" name="CuadroTexto 8"/>
          <p:cNvSpPr/>
          <p:nvPr/>
        </p:nvSpPr>
        <p:spPr>
          <a:xfrm>
            <a:off x="5780160" y="5726160"/>
            <a:ext cx="16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erjteije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BRAINSTORMING DE FUTU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Marcador de contenido 3" descr="Ingenius_Wallpaper_logos.png"/>
          <p:cNvPicPr/>
          <p:nvPr/>
        </p:nvPicPr>
        <p:blipFill>
          <a:blip r:embed="rId1"/>
          <a:srcRect l="-1137" t="0" r="-1137" b="0"/>
          <a:stretch/>
        </p:blipFill>
        <p:spPr>
          <a:xfrm>
            <a:off x="355680" y="1258920"/>
            <a:ext cx="840420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oma de conci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Imagen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487" name="CuadroTexto 4"/>
          <p:cNvSpPr/>
          <p:nvPr/>
        </p:nvSpPr>
        <p:spPr>
          <a:xfrm>
            <a:off x="0" y="647640"/>
            <a:ext cx="614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Toma de conci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Imagen 5" descr=""/>
          <p:cNvPicPr/>
          <p:nvPr/>
        </p:nvPicPr>
        <p:blipFill>
          <a:blip r:embed="rId1"/>
          <a:stretch/>
        </p:blipFill>
        <p:spPr>
          <a:xfrm>
            <a:off x="-147600" y="0"/>
            <a:ext cx="9300960" cy="6858000"/>
          </a:xfrm>
          <a:prstGeom prst="rect">
            <a:avLst/>
          </a:prstGeom>
          <a:ln w="0">
            <a:noFill/>
          </a:ln>
        </p:spPr>
      </p:pic>
      <p:sp>
        <p:nvSpPr>
          <p:cNvPr id="489" name="CuadroTexto 6"/>
          <p:cNvSpPr/>
          <p:nvPr/>
        </p:nvSpPr>
        <p:spPr>
          <a:xfrm>
            <a:off x="2900520" y="5540760"/>
            <a:ext cx="507996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 Protagonist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CuadroTexto 7"/>
          <p:cNvSpPr/>
          <p:nvPr/>
        </p:nvSpPr>
        <p:spPr>
          <a:xfrm>
            <a:off x="0" y="4045320"/>
            <a:ext cx="226548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Víctim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ítulo 4"/>
          <p:cNvSpPr/>
          <p:nvPr/>
        </p:nvSpPr>
        <p:spPr>
          <a:xfrm>
            <a:off x="3209760" y="1996920"/>
            <a:ext cx="292284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Times New Roman"/>
              </a:rPr>
              <a:t>Si no sabes a dónde vas, </a:t>
            </a:r>
            <a:br>
              <a:rPr sz="3100"/>
            </a:br>
            <a:r>
              <a:rPr b="0" lang="es-ES_tradnl" sz="3100" spc="-1" strike="noStrike">
                <a:solidFill>
                  <a:srgbClr val="ffffff"/>
                </a:solidFill>
                <a:latin typeface="Times New Roman"/>
              </a:rPr>
              <a:t>cualquier camino es buen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Imagen 5" descr=""/>
          <p:cNvPicPr/>
          <p:nvPr/>
        </p:nvPicPr>
        <p:blipFill>
          <a:blip r:embed="rId1"/>
          <a:stretch/>
        </p:blipFill>
        <p:spPr>
          <a:xfrm>
            <a:off x="0" y="0"/>
            <a:ext cx="9191520" cy="6878520"/>
          </a:xfrm>
          <a:prstGeom prst="rect">
            <a:avLst/>
          </a:prstGeom>
          <a:ln w="0">
            <a:noFill/>
          </a:ln>
        </p:spPr>
      </p:pic>
      <p:sp>
        <p:nvSpPr>
          <p:cNvPr id="494" name="CuadroTexto 6"/>
          <p:cNvSpPr/>
          <p:nvPr/>
        </p:nvSpPr>
        <p:spPr>
          <a:xfrm>
            <a:off x="457200" y="5602320"/>
            <a:ext cx="850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Didot"/>
                <a:ea typeface="Didot"/>
              </a:rPr>
              <a:t>Si no sabes a dónde vas, cualquier camino es bu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uadroTexto 8"/>
          <p:cNvSpPr/>
          <p:nvPr/>
        </p:nvSpPr>
        <p:spPr>
          <a:xfrm>
            <a:off x="235080" y="274680"/>
            <a:ext cx="24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Didot"/>
                <a:ea typeface="Didot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uadroTexto 9"/>
          <p:cNvSpPr/>
          <p:nvPr/>
        </p:nvSpPr>
        <p:spPr>
          <a:xfrm>
            <a:off x="2109960" y="1190520"/>
            <a:ext cx="18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uadroTexto 10"/>
          <p:cNvSpPr/>
          <p:nvPr/>
        </p:nvSpPr>
        <p:spPr>
          <a:xfrm>
            <a:off x="1701720" y="974880"/>
            <a:ext cx="202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Didot"/>
                <a:ea typeface="Didot"/>
              </a:rPr>
              <a:t>Real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CuadroTexto 11"/>
          <p:cNvSpPr/>
          <p:nvPr/>
        </p:nvSpPr>
        <p:spPr>
          <a:xfrm>
            <a:off x="3209760" y="274680"/>
            <a:ext cx="224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Didot"/>
                <a:ea typeface="Didot"/>
              </a:rPr>
              <a:t>Alcanz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uadroTexto 12"/>
          <p:cNvSpPr/>
          <p:nvPr/>
        </p:nvSpPr>
        <p:spPr>
          <a:xfrm>
            <a:off x="3252960" y="1590840"/>
            <a:ext cx="25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Didot"/>
                <a:ea typeface="Didot"/>
              </a:rPr>
              <a:t>Desafi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uadroTexto 13"/>
          <p:cNvSpPr/>
          <p:nvPr/>
        </p:nvSpPr>
        <p:spPr>
          <a:xfrm>
            <a:off x="6662880" y="274680"/>
            <a:ext cx="20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Didot"/>
                <a:ea typeface="Didot"/>
              </a:rPr>
              <a:t>Posi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uadroTexto 14"/>
          <p:cNvSpPr/>
          <p:nvPr/>
        </p:nvSpPr>
        <p:spPr>
          <a:xfrm>
            <a:off x="5133960" y="1004760"/>
            <a:ext cx="30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Didot"/>
                <a:ea typeface="Didot"/>
              </a:rPr>
              <a:t>Por escr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álisis de tu realidad: DA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Marcador de contenido 3" descr="Para_qu%C3%A9_sirve_el_DAFO.jpg"/>
          <p:cNvPicPr/>
          <p:nvPr/>
        </p:nvPicPr>
        <p:blipFill>
          <a:blip r:embed="rId1"/>
          <a:srcRect l="-39269" t="0" r="-39269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Imagen 6" descr=""/>
          <p:cNvPicPr/>
          <p:nvPr/>
        </p:nvPicPr>
        <p:blipFill>
          <a:blip r:embed="rId1"/>
          <a:stretch/>
        </p:blipFill>
        <p:spPr>
          <a:xfrm>
            <a:off x="0" y="0"/>
            <a:ext cx="9190080" cy="6980400"/>
          </a:xfrm>
          <a:prstGeom prst="rect">
            <a:avLst/>
          </a:prstGeom>
          <a:ln w="0">
            <a:noFill/>
          </a:ln>
        </p:spPr>
      </p:pic>
      <p:sp>
        <p:nvSpPr>
          <p:cNvPr id="505" name="CuadroTexto 7"/>
          <p:cNvSpPr/>
          <p:nvPr/>
        </p:nvSpPr>
        <p:spPr>
          <a:xfrm>
            <a:off x="886680" y="463680"/>
            <a:ext cx="748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definición de locura es hac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s mismas cosas una y otra v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y esperar resultados distinto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racasos famo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Imagen 5" descr=""/>
          <p:cNvPicPr/>
          <p:nvPr/>
        </p:nvPicPr>
        <p:blipFill>
          <a:blip r:embed="rId1"/>
          <a:stretch/>
        </p:blipFill>
        <p:spPr>
          <a:xfrm>
            <a:off x="1168560" y="1644480"/>
            <a:ext cx="6510240" cy="49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Imagen 3" descr=""/>
          <p:cNvPicPr/>
          <p:nvPr/>
        </p:nvPicPr>
        <p:blipFill>
          <a:blip r:embed="rId1"/>
          <a:stretch/>
        </p:blipFill>
        <p:spPr>
          <a:xfrm>
            <a:off x="-149400" y="-112680"/>
            <a:ext cx="9293400" cy="6970680"/>
          </a:xfrm>
          <a:prstGeom prst="rect">
            <a:avLst/>
          </a:prstGeom>
          <a:ln w="0">
            <a:noFill/>
          </a:ln>
        </p:spPr>
      </p:pic>
      <p:sp>
        <p:nvSpPr>
          <p:cNvPr id="509" name="CuadroTexto 4"/>
          <p:cNvSpPr/>
          <p:nvPr/>
        </p:nvSpPr>
        <p:spPr>
          <a:xfrm>
            <a:off x="1547640" y="217440"/>
            <a:ext cx="53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no tienes opciones estás mu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uadroTexto 5"/>
          <p:cNvSpPr/>
          <p:nvPr/>
        </p:nvSpPr>
        <p:spPr>
          <a:xfrm>
            <a:off x="3688200" y="3624120"/>
            <a:ext cx="32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tienes tres opcion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ángulo 6"/>
          <p:cNvSpPr/>
          <p:nvPr/>
        </p:nvSpPr>
        <p:spPr>
          <a:xfrm>
            <a:off x="3261960" y="5961240"/>
            <a:ext cx="55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 el comienzo de una verdadera el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CuadroTexto 7"/>
          <p:cNvSpPr/>
          <p:nvPr/>
        </p:nvSpPr>
        <p:spPr>
          <a:xfrm>
            <a:off x="3546360" y="944640"/>
            <a:ext cx="520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sólo tienes una opción estás obli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CuadroTexto 8"/>
          <p:cNvSpPr/>
          <p:nvPr/>
        </p:nvSpPr>
        <p:spPr>
          <a:xfrm>
            <a:off x="3236760" y="1719360"/>
            <a:ext cx="551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tienes dos opciones estás en un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Imagen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 txBox="1"/>
          <p:nvPr/>
        </p:nvSpPr>
        <p:spPr>
          <a:xfrm>
            <a:off x="6527520" y="231840"/>
            <a:ext cx="164916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10253f"/>
                </a:solidFill>
                <a:latin typeface="Times New Roman"/>
              </a:rPr>
              <a:t>¿Qué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CuadroTexto 5"/>
          <p:cNvSpPr/>
          <p:nvPr/>
        </p:nvSpPr>
        <p:spPr>
          <a:xfrm>
            <a:off x="7230960" y="3330720"/>
            <a:ext cx="191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10253f"/>
                </a:solidFill>
                <a:latin typeface="Times New Roman"/>
              </a:rPr>
              <a:t>¿Cuán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CuadroTexto 6"/>
          <p:cNvSpPr/>
          <p:nvPr/>
        </p:nvSpPr>
        <p:spPr>
          <a:xfrm>
            <a:off x="6527880" y="126216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10253f"/>
                </a:solidFill>
                <a:latin typeface="Times New Roman"/>
              </a:rPr>
              <a:t>¿Cóm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CuadroTexto 7"/>
          <p:cNvSpPr/>
          <p:nvPr/>
        </p:nvSpPr>
        <p:spPr>
          <a:xfrm>
            <a:off x="6807240" y="234648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10253f"/>
                </a:solidFill>
                <a:latin typeface="Times New Roman"/>
              </a:rPr>
              <a:t>¿Quié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CuadroTexto 8"/>
          <p:cNvSpPr/>
          <p:nvPr/>
        </p:nvSpPr>
        <p:spPr>
          <a:xfrm>
            <a:off x="1549440" y="5931000"/>
            <a:ext cx="73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¿Cómo sabrás que lo has logra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7T17:16:01Z</dcterms:created>
  <dc:creator>usuario</dc:creator>
  <dc:description/>
  <dc:language>en-US</dc:language>
  <cp:lastModifiedBy>usuario</cp:lastModifiedBy>
  <cp:lastPrinted>2013-02-21T06:42:18Z</cp:lastPrinted>
  <dcterms:modified xsi:type="dcterms:W3CDTF">2013-02-27T17:33:30Z</dcterms:modified>
  <cp:revision>17</cp:revision>
  <dc:subject/>
  <dc:title>Diapositiva 1</dc:title>
</cp:coreProperties>
</file>