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2150-DAC5-41B5-96E5-3EFA6E518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578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8578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C254-436F-4833-AB24-6320F7AC3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12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358B-1CB8-4D73-863F-D7026F73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6680" y="137124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7200" y="137124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6680" y="391860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7200" y="391860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4C37-2C48-4D27-A0E6-6493A649E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8578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5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8578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6860-6FCA-4596-A98F-B8B83C969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212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8578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578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18600"/>
            <a:ext cx="8578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212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6680" y="137124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87200" y="137124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1860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86680" y="391860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87200" y="3918600"/>
            <a:ext cx="2762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5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246B-3FEE-498B-BCB6-6387557DA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F3F1-4BDC-40B7-A994-2BE2F48FD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6867-3E45-486D-9548-106199E54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72D6-2BF5-4229-B0D8-71E47300F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CD17-6498-49EF-860A-3796D576F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120" y="391860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8455-E50F-4C5A-AA12-2E405DB8F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418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8600"/>
            <a:ext cx="8578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BF34-C71B-49B0-B3A6-785F105DC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0079" r="12129" b="19974"/>
          <a:stretch/>
        </p:blipFill>
        <p:spPr>
          <a:xfrm>
            <a:off x="7543800" y="262080"/>
            <a:ext cx="1860480" cy="769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8610480" cy="276480"/>
          </a:xfrm>
          <a:prstGeom prst="rect">
            <a:avLst/>
          </a:prstGeom>
          <a:solidFill>
            <a:srgbClr val="4a871d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LÍ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7d1b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371240"/>
            <a:ext cx="8578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3000" indent="-243000">
              <a:lnSpc>
                <a:spcPct val="110000"/>
              </a:lnSpc>
              <a:spcBef>
                <a:spcPts val="499"/>
              </a:spcBef>
              <a:buClr>
                <a:srgbClr val="447d1b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  <a:p>
            <a:pPr lvl="1" marL="668160" indent="-201600">
              <a:lnSpc>
                <a:spcPct val="110000"/>
              </a:lnSpc>
              <a:spcBef>
                <a:spcPts val="499"/>
              </a:spcBef>
              <a:buClr>
                <a:srgbClr val="447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  <a:p>
            <a:pPr lvl="2" marL="1149480" indent="-190800">
              <a:lnSpc>
                <a:spcPct val="110000"/>
              </a:lnSpc>
              <a:spcBef>
                <a:spcPts val="499"/>
              </a:spcBef>
              <a:buClr>
                <a:srgbClr val="447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  <a:p>
            <a:pPr lvl="3" marL="1525680" indent="-154080">
              <a:lnSpc>
                <a:spcPct val="110000"/>
              </a:lnSpc>
              <a:spcBef>
                <a:spcPts val="499"/>
              </a:spcBef>
              <a:buClr>
                <a:srgbClr val="447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  <a:p>
            <a:pPr lvl="4" marL="2001960" indent="-196920">
              <a:lnSpc>
                <a:spcPct val="110000"/>
              </a:lnSpc>
              <a:spcBef>
                <a:spcPts val="499"/>
              </a:spcBef>
              <a:buClr>
                <a:srgbClr val="447d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  <a:p>
            <a:pPr lvl="5" marL="2001960" indent="-196920">
              <a:lnSpc>
                <a:spcPct val="110000"/>
              </a:lnSpc>
              <a:spcBef>
                <a:spcPts val="499"/>
              </a:spcBef>
              <a:buClr>
                <a:srgbClr val="4a87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  <a:p>
            <a:pPr lvl="6" marL="2001960" indent="-196920">
              <a:lnSpc>
                <a:spcPct val="110000"/>
              </a:lnSpc>
              <a:spcBef>
                <a:spcPts val="499"/>
              </a:spcBef>
              <a:buClr>
                <a:srgbClr val="4a87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7d1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47d1b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61976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d1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93E3-36A0-44FB-B458-84E50CF59157}" type="slidenum">
              <a:rPr b="0" lang="en-US" sz="1400" spc="-1" strike="noStrike">
                <a:solidFill>
                  <a:srgbClr val="447d1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783480" y="5334120"/>
            <a:ext cx="2631960" cy="121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-3240"/>
            <a:ext cx="9906120" cy="6861240"/>
          </a:xfrm>
          <a:custGeom>
            <a:avLst/>
            <a:gdLst/>
            <a:ahLst/>
            <a:rect l="l" t="t" r="r" b="b"/>
            <a:pathLst>
              <a:path w="6228" h="4314">
                <a:moveTo>
                  <a:pt x="0" y="0"/>
                </a:moveTo>
                <a:lnTo>
                  <a:pt x="0" y="4314"/>
                </a:lnTo>
                <a:lnTo>
                  <a:pt x="3393" y="4314"/>
                </a:lnTo>
                <a:lnTo>
                  <a:pt x="3439" y="4192"/>
                </a:lnTo>
                <a:lnTo>
                  <a:pt x="3514" y="4044"/>
                </a:lnTo>
                <a:lnTo>
                  <a:pt x="3614" y="3887"/>
                </a:lnTo>
                <a:lnTo>
                  <a:pt x="3761" y="3715"/>
                </a:lnTo>
                <a:lnTo>
                  <a:pt x="3985" y="3505"/>
                </a:lnTo>
                <a:lnTo>
                  <a:pt x="4113" y="3395"/>
                </a:lnTo>
                <a:lnTo>
                  <a:pt x="4228" y="3315"/>
                </a:lnTo>
                <a:lnTo>
                  <a:pt x="4337" y="3232"/>
                </a:lnTo>
                <a:lnTo>
                  <a:pt x="4477" y="3138"/>
                </a:lnTo>
                <a:lnTo>
                  <a:pt x="4610" y="3050"/>
                </a:lnTo>
                <a:lnTo>
                  <a:pt x="4710" y="2986"/>
                </a:lnTo>
                <a:lnTo>
                  <a:pt x="4835" y="2904"/>
                </a:lnTo>
                <a:lnTo>
                  <a:pt x="4919" y="2844"/>
                </a:lnTo>
                <a:lnTo>
                  <a:pt x="5003" y="2788"/>
                </a:lnTo>
                <a:lnTo>
                  <a:pt x="5100" y="2724"/>
                </a:lnTo>
                <a:lnTo>
                  <a:pt x="5227" y="2626"/>
                </a:lnTo>
                <a:lnTo>
                  <a:pt x="5329" y="2548"/>
                </a:lnTo>
                <a:lnTo>
                  <a:pt x="5415" y="2483"/>
                </a:lnTo>
                <a:lnTo>
                  <a:pt x="5495" y="2415"/>
                </a:lnTo>
                <a:lnTo>
                  <a:pt x="5579" y="2333"/>
                </a:lnTo>
                <a:lnTo>
                  <a:pt x="5722" y="2197"/>
                </a:lnTo>
                <a:lnTo>
                  <a:pt x="5897" y="1981"/>
                </a:lnTo>
                <a:lnTo>
                  <a:pt x="6073" y="1710"/>
                </a:lnTo>
                <a:lnTo>
                  <a:pt x="6228" y="1358"/>
                </a:lnTo>
                <a:lnTo>
                  <a:pt x="6228" y="2"/>
                </a:lnTo>
                <a:lnTo>
                  <a:pt x="0" y="0"/>
                </a:lnTo>
                <a:close/>
              </a:path>
            </a:pathLst>
          </a:custGeom>
          <a:solidFill>
            <a:srgbClr val="4a871d"/>
          </a:solidFill>
          <a:ln w="28440">
            <a:solidFill>
              <a:srgbClr val="4a87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1599840"/>
            <a:ext cx="7791480" cy="1143000"/>
          </a:xfrm>
          <a:prstGeom prst="rect">
            <a:avLst/>
          </a:prstGeom>
          <a:solidFill>
            <a:srgbClr val="4a871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7d1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47d1b"/>
              </a:solidFill>
              <a:latin typeface="Arial"/>
            </a:endParaRPr>
          </a:p>
          <a:p>
            <a:pPr lvl="2" marL="914400" indent="44280" algn="ctr">
              <a:lnSpc>
                <a:spcPct val="110000"/>
              </a:lnSpc>
              <a:spcBef>
                <a:spcPts val="451"/>
              </a:spcBef>
              <a:buClr>
                <a:srgbClr val="447d1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7d1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47d1b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447d1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7d1b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47d1b"/>
              </a:solidFill>
              <a:latin typeface="Arial"/>
            </a:endParaRPr>
          </a:p>
          <a:p>
            <a:pPr lvl="4" marL="1805040" algn="ctr">
              <a:lnSpc>
                <a:spcPct val="110000"/>
              </a:lnSpc>
              <a:spcBef>
                <a:spcPts val="400"/>
              </a:spcBef>
              <a:buClr>
                <a:srgbClr val="447d1b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7d1b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447d1b"/>
              </a:solidFill>
              <a:latin typeface="Arial"/>
            </a:endParaRPr>
          </a:p>
          <a:p>
            <a:pPr lvl="5" marL="1805040">
              <a:spcBef>
                <a:spcPts val="400"/>
              </a:spcBef>
              <a:buClr>
                <a:srgbClr val="4a87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7d1b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447d1b"/>
              </a:solidFill>
              <a:latin typeface="Arial"/>
            </a:endParaRPr>
          </a:p>
          <a:p>
            <a:pPr lvl="6" marL="1805040">
              <a:spcBef>
                <a:spcPts val="400"/>
              </a:spcBef>
              <a:buClr>
                <a:srgbClr val="4a87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7d1b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447d1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2160" y="2491920"/>
            <a:ext cx="7561440" cy="1143000"/>
          </a:xfrm>
          <a:prstGeom prst="rect">
            <a:avLst/>
          </a:prstGeom>
          <a:solidFill>
            <a:srgbClr val="4a871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 Black"/>
              </a:rPr>
              <a:t>REDES SUBTERRÁNEAS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04920"/>
            <a:ext cx="264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ISTRIBUCIÓN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ervicios Técnicos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NOMAM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3640" y="57974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2005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40676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a871d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Tendido cables subterráneos 0,6/1 kV - 12/20 kV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olocados en dos planos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447920"/>
            <a:ext cx="8688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871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57240" y="1117440"/>
          <a:ext cx="541044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117440"/>
                    <a:ext cx="541044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600200" y="541008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06560" y="4915080"/>
          <a:ext cx="47595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4915080"/>
                    <a:ext cx="47595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2743200" y="762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ANALIZACIÓN ENTERRADA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64F4-CAB8-4518-92CC-482B515F4B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787320"/>
            <a:ext cx="71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ANALIZACIÓN ENTUBADA (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siento arena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828800"/>
            <a:ext cx="785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897280" y="1117440"/>
          <a:ext cx="4135320" cy="30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1117440"/>
                    <a:ext cx="413532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-25560" y="4495680"/>
            <a:ext cx="96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analización entubada con tubos 160  y cables aislados de 0,6/1 kV - 12/20 kV (hasta 240 mm</a:t>
            </a:r>
            <a:r>
              <a:rPr b="1" lang="es-ES" sz="1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 inclusive)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olocados en un plano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1560" y="5410080"/>
            <a:ext cx="7697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441520" y="5029200"/>
          <a:ext cx="525456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1520" y="5029200"/>
                    <a:ext cx="525456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5670-4BB2-4FA9-BD30-0A23ECA84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800280"/>
            <a:ext cx="71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ANALIZACIÓN ENTUBADA (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siento arena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7652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22400" y="1181160"/>
          <a:ext cx="432936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1181160"/>
                    <a:ext cx="432936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62120" y="4127400"/>
            <a:ext cx="853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analización entubada con tubos 160  y cables aislados de 0,6/1 kV - 12/20 kV (hasta 240 mm</a:t>
            </a:r>
            <a:r>
              <a:rPr b="1" lang="es-ES" sz="1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 inclusive)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olocados en dos planos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97280" y="4667400"/>
          <a:ext cx="4881600" cy="16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7280" y="4667400"/>
                    <a:ext cx="4881600" cy="16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50DE-C521-4CC8-BC2E-9740B9B0A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800280"/>
            <a:ext cx="71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ANALIZACIÓN ENTUBADA (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siento arena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160020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90840" y="1149480"/>
          <a:ext cx="509112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149480"/>
                    <a:ext cx="5091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774720" y="474984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analización entubada con tubos 200  y cables aislados de 12/20 kV (de 400 mm</a:t>
            </a:r>
            <a:r>
              <a:rPr b="1" lang="es-ES" sz="1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81080" y="5143680"/>
          <a:ext cx="5870520" cy="13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143680"/>
                    <a:ext cx="587052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D37D-C1BD-4642-A2D0-CE963C825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141560" y="762120"/>
            <a:ext cx="65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ANALIZACIÓN CRUCES (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siento de Hormigón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" y="1219320"/>
          <a:ext cx="5256000" cy="43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219320"/>
                    <a:ext cx="5256000" cy="43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334120" y="1952640"/>
            <a:ext cx="449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analización entubada con tubos 160  y cables aislados de 0,6/1 kV - 12/20 kV (hasta 240 mm</a:t>
            </a:r>
            <a:r>
              <a:rPr b="1" lang="es-ES" sz="1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 inclusive)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olocados en un plano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4120" y="2971800"/>
          <a:ext cx="47228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971800"/>
                    <a:ext cx="47228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1773-4B20-43DD-9851-DA4DC6FF64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9144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CANALIZACIÓN CRUCES (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Asiento de Hormigón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2680" y="1447920"/>
          <a:ext cx="487656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447920"/>
                    <a:ext cx="487656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103720" y="1523880"/>
            <a:ext cx="4421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analización entubada con tubos 160  y cables aislados de 0,6/1 kV - 12/20 kV 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(hasta 240 mm</a:t>
            </a:r>
            <a:r>
              <a:rPr b="1" lang="es-ES" sz="1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, inclusive)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Colocados en dos planos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4120" y="2765520"/>
          <a:ext cx="4192560" cy="22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765520"/>
                    <a:ext cx="41925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71A7-AD29-48C1-BFD0-D56578F052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3600" y="1225440"/>
          <a:ext cx="396900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225440"/>
                    <a:ext cx="39690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693960" y="1863720"/>
          <a:ext cx="6708960" cy="446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3960" y="1863720"/>
                    <a:ext cx="67089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3D43-0EA7-4BBE-92FB-2718E2C916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3600" y="1225440"/>
          <a:ext cx="396900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225440"/>
                    <a:ext cx="39690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643200" y="2311560"/>
          <a:ext cx="6708960" cy="439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2311560"/>
                    <a:ext cx="670896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6C28-C1C2-47E4-9674-C2409A0515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3600" y="1225440"/>
          <a:ext cx="396900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225440"/>
                    <a:ext cx="39690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55920" y="1171440"/>
          <a:ext cx="6757920" cy="440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1171440"/>
                    <a:ext cx="6757920" cy="44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650960" y="1228680"/>
          <a:ext cx="6757920" cy="4402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0960" y="1228680"/>
                    <a:ext cx="675792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529080" y="1467000"/>
          <a:ext cx="6708600" cy="4965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9080" y="1467000"/>
                    <a:ext cx="670860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781B-0273-40F1-B755-C1B6C5BD8A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3600" y="1225440"/>
          <a:ext cx="396900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225440"/>
                    <a:ext cx="39690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543480" y="1638360"/>
          <a:ext cx="6705360" cy="491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3480" y="1638360"/>
                    <a:ext cx="67053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3750-3146-4BEE-8228-FD57961976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46320" y="1130400"/>
          <a:ext cx="5600520" cy="45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1130400"/>
                    <a:ext cx="560052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21C1-BCE8-407E-A266-FC1F0ACE7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46320" y="824040"/>
          <a:ext cx="561348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824040"/>
                    <a:ext cx="561348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CBFD-11F6-4DAD-BBEC-DBF41D56AA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19320"/>
            <a:ext cx="9219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2286000"/>
          <a:ext cx="8229600" cy="33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822960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133720" y="1600200"/>
          <a:ext cx="5613120" cy="539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600200"/>
                    <a:ext cx="5613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031F-5504-4EDF-9372-5D6441B27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808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2514600"/>
          <a:ext cx="8153640" cy="33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815364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2133720" y="1600200"/>
            <a:ext cx="5613120" cy="587520"/>
            <a:chOff x="2133720" y="1600200"/>
            <a:chExt cx="5613120" cy="587520"/>
          </a:xfrm>
        </p:grpSpPr>
        <p:graphicFrame>
          <p:nvGraphicFramePr>
            <p:cNvPr id="108" name=""/>
            <p:cNvGraphicFramePr/>
            <p:nvPr/>
          </p:nvGraphicFramePr>
          <p:xfrm>
            <a:off x="2133720" y="1828800"/>
            <a:ext cx="5613120" cy="358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1828800"/>
                      <a:ext cx="56131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2133720" y="1600200"/>
            <a:ext cx="5613120" cy="179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1600200"/>
                      <a:ext cx="5613120" cy="17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8B4A-20EA-4594-86E9-B02F754FA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79640" y="1600200"/>
          <a:ext cx="5562720" cy="361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600200"/>
                    <a:ext cx="55627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95280" y="9144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ANALIZACIÓN ENTERRADA (Asiento arena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47920" y="5257800"/>
          <a:ext cx="6721200" cy="439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257800"/>
                    <a:ext cx="67212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600200" y="487692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Tendido cables subterráneos 0,6/1 kV colocados en un plano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215A-8BD7-47B5-B434-F0BEC98D5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-14400" y="939960"/>
            <a:ext cx="9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NJUNTOS CONSTRUCTIVOS CANALIZACIÓN ENTERRADA(Asiento arena)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00200" y="1257480"/>
          <a:ext cx="6591240" cy="42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57480"/>
                    <a:ext cx="659124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01640" y="5372280"/>
          <a:ext cx="6759720" cy="5047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1640" y="5372280"/>
                    <a:ext cx="675972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905120" y="487692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Tendido cables subterráneos 0,6/1 kV colocados en dos planos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69C6-812F-43E8-95B5-0C3F122930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990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ANALIZACIÓN ENTERRAD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Asiento arena)</a:t>
            </a:r>
            <a:endParaRPr b="0" lang="en-US" sz="18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43160" y="1523880"/>
          <a:ext cx="7399080" cy="43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523880"/>
                    <a:ext cx="739908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555920" y="1693800"/>
          <a:ext cx="6757920" cy="440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1693800"/>
                    <a:ext cx="675792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066680" y="5181480"/>
            <a:ext cx="7239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Tendido cables subterráneos 12/20 y 18/30 kV colocados en un plano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295280" y="5486400"/>
          <a:ext cx="7026480" cy="4597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486400"/>
                    <a:ext cx="702648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2C2B-487F-411C-8DFE-5D4578D9CE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256360" y="627552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60920" y="6856560"/>
            <a:ext cx="1440" cy="144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47d1b"/>
                </a:solidFill>
                <a:latin typeface="Arial Black"/>
              </a:rPr>
              <a:t>REDES SUBTERRANEAS</a:t>
            </a:r>
            <a:endParaRPr b="0" lang="en-US" sz="2600" spc="-1" strike="noStrike">
              <a:solidFill>
                <a:srgbClr val="447d1b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565360" y="473724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Times New Roman"/>
              </a:rPr>
              <a:t>Tendido cables subterráneos 12/20 kV  colocados en dos planos</a:t>
            </a:r>
            <a:endParaRPr b="0" lang="en-US" sz="1400" spc="-1" strike="noStrike">
              <a:solidFill>
                <a:srgbClr val="4a871d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51040" y="1077840"/>
          <a:ext cx="6324480" cy="41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1077840"/>
                    <a:ext cx="63244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828800" y="5054760"/>
          <a:ext cx="6591240" cy="427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054760"/>
                    <a:ext cx="659124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971800" y="8380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ANALIZACIÓN ENTERRADA</a:t>
            </a:r>
            <a:endParaRPr b="0" lang="en-US" sz="2000" spc="-1" strike="noStrike">
              <a:solidFill>
                <a:srgbClr val="4a87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irección Corporati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631B-E4C9-4BB8-BE23-FAD61E04F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06:09:18Z</dcterms:created>
  <dc:creator>U230425</dc:creator>
  <dc:description/>
  <dc:language>en-US</dc:language>
  <cp:lastModifiedBy>Iberdrola, S.A.</cp:lastModifiedBy>
  <cp:lastPrinted>2003-04-15T15:46:20Z</cp:lastPrinted>
  <dcterms:modified xsi:type="dcterms:W3CDTF">2006-01-09T19:13:55Z</dcterms:modified>
  <cp:revision>172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79140998</vt:r8>
  </property>
  <property fmtid="{D5CDD505-2E9C-101B-9397-08002B2CF9AE}" pid="3" name="_AuthorEmail">
    <vt:lpwstr>antonio.huertas@copitial.org</vt:lpwstr>
  </property>
  <property fmtid="{D5CDD505-2E9C-101B-9397-08002B2CF9AE}" pid="4" name="_AuthorEmailDisplayName">
    <vt:lpwstr>Antonio Huertas</vt:lpwstr>
  </property>
  <property fmtid="{D5CDD505-2E9C-101B-9397-08002B2CF9AE}" pid="5" name="_EmailSubject">
    <vt:lpwstr>CIRCULAR ZANJAS DE IBERDROLA</vt:lpwstr>
  </property>
  <property fmtid="{D5CDD505-2E9C-101B-9397-08002B2CF9AE}" pid="6" name="_NewReviewCycle">
    <vt:lpwstr/>
  </property>
  <property fmtid="{D5CDD505-2E9C-101B-9397-08002B2CF9AE}" pid="7" name="_PreviousAdHocReviewCycleID">
    <vt:r8>1020774552</vt:r8>
  </property>
</Properties>
</file>